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E596-8DAF-4D57-AD90-E75E28F53B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51F-6222-4616-903B-9E6486B6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7F7-D03C-4A61-B105-8C2461F68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C49-EFEB-4A37-9CFF-093153A7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4D9-C849-4C2F-8F65-DABB2F98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41A2-F890-4FB0-8863-F8191F42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596-B860-45C6-A5B6-F0955AAB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AC0-60BB-495A-A200-F3AED7FE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578-C6C7-4EFC-A3BB-8C155F37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E80D-FEB2-4532-B2CA-3781B11A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ADA-CBCA-47BE-A527-4367B18F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EE40-B0FA-495E-BF62-B2BE4284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5F0-50D1-411D-BE8B-4E1FA114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1AED-2946-4B54-8741-5D6031E6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E78-74BB-4FAC-8DDC-81BF529A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7610-E870-4010-B02F-A731549B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lture 1865–1914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5" descr="HSUS_ch14_S3_CyYoung"/>
          <p:cNvPicPr/>
          <p:nvPr/>
        </p:nvPicPr>
        <p:blipFill>
          <a:blip r:embed="rId1"/>
          <a:stretch/>
        </p:blipFill>
        <p:spPr>
          <a:xfrm>
            <a:off x="3505320" y="2057400"/>
            <a:ext cx="2325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28880" y="2017800"/>
            <a:ext cx="7467480" cy="40050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137160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ange in the Gilde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019240"/>
          <a:ext cx="7238880" cy="4000680"/>
        </p:xfrm>
        <a:graphic>
          <a:graphicData uri="http://schemas.openxmlformats.org/drawingml/2006/table">
            <a:tbl>
              <a:tblPr/>
              <a:tblGrid>
                <a:gridCol w="3506760"/>
                <a:gridCol w="3732120"/>
              </a:tblGrid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Changes for 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Changes for 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ore-bought clothing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epackaged foods,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oor plumbing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ome tasks easi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transportation allowed familie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to live farth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from the cit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ising expectations of cleanliness and more complicated meal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ade some tasks ha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 often had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ommute long dista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 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y women had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work outside the h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 achieve a middle-class lifesty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 worked hard, but the American culture taught that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hard work would pay of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 flipH="1" rot="10792800">
            <a:off x="1054440" y="1370880"/>
            <a:ext cx="6934320" cy="2971800"/>
          </a:xfrm>
          <a:prstGeom prst="upArrowCallout">
            <a:avLst>
              <a:gd name="adj1" fmla="val 29019"/>
              <a:gd name="adj2" fmla="val 2467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9"/>
          <p:cNvSpPr/>
          <p:nvPr/>
        </p:nvSpPr>
        <p:spPr>
          <a:xfrm>
            <a:off x="1143000" y="1447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of the effects of the spread of transportation, communication, and advertising was that Americans became more alike in their consumption patte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0"/>
          <p:cNvSpPr/>
          <p:nvPr/>
        </p:nvSpPr>
        <p:spPr>
          <a:xfrm>
            <a:off x="1066680" y="4519440"/>
            <a:ext cx="7239240" cy="15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ch and poor wore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ame clothing sty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bought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ame kinds of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phenomenon is known 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9"/>
          <p:cNvSpPr/>
          <p:nvPr/>
        </p:nvSpPr>
        <p:spPr>
          <a:xfrm>
            <a:off x="533520" y="1371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newspapers of the Gilded Age both reflected and helped create 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837720" y="2895120"/>
            <a:ext cx="4267080" cy="2590920"/>
            <a:chOff x="837720" y="2895120"/>
            <a:chExt cx="4267080" cy="2590920"/>
          </a:xfrm>
        </p:grpSpPr>
        <p:sp>
          <p:nvSpPr>
            <p:cNvPr id="94" name="AutoShape 4"/>
            <p:cNvSpPr/>
            <p:nvPr/>
          </p:nvSpPr>
          <p:spPr>
            <a:xfrm flipH="1" rot="5400000">
              <a:off x="1675080" y="2057040"/>
              <a:ext cx="2590920" cy="4267080"/>
            </a:xfrm>
            <a:prstGeom prst="upArrowCallout">
              <a:avLst>
                <a:gd name="adj1" fmla="val 13418"/>
                <a:gd name="adj2" fmla="val 12500"/>
                <a:gd name="adj3" fmla="val 26069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916920" y="3111120"/>
              <a:ext cx="294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Between 1870 and 1900,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the number of newspapers increased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from about 600 to more than 1,600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29"/>
          <p:cNvSpPr/>
          <p:nvPr/>
        </p:nvSpPr>
        <p:spPr>
          <a:xfrm>
            <a:off x="5334120" y="3262320"/>
            <a:ext cx="335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thnic and special-interest publish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tered to the array of urban dwellers, especially immigr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MCj04260620000[1]"/>
          <p:cNvPicPr/>
          <p:nvPr/>
        </p:nvPicPr>
        <p:blipFill>
          <a:blip r:embed="rId1"/>
          <a:stretch/>
        </p:blipFill>
        <p:spPr>
          <a:xfrm>
            <a:off x="1547640" y="2630520"/>
            <a:ext cx="1857600" cy="1458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 flipH="1" rot="5400000">
            <a:off x="761040" y="1828440"/>
            <a:ext cx="3657600" cy="3505320"/>
          </a:xfrm>
          <a:prstGeom prst="upArrowCallout">
            <a:avLst>
              <a:gd name="adj1" fmla="val 21750"/>
              <a:gd name="adj2" fmla="val 19695"/>
              <a:gd name="adj3" fmla="val 14898"/>
              <a:gd name="adj4" fmla="val 46907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14400" y="1828800"/>
            <a:ext cx="2514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seph Pulitz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ved that the job of a newspaper was to inform people and to stir up controversy.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s papers were sensation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4571280" y="1752480"/>
            <a:ext cx="3505320" cy="3657240"/>
            <a:chOff x="4571280" y="1752480"/>
            <a:chExt cx="3505320" cy="3657240"/>
          </a:xfrm>
        </p:grpSpPr>
        <p:sp>
          <p:nvSpPr>
            <p:cNvPr id="101" name="AutoShape 5"/>
            <p:cNvSpPr/>
            <p:nvPr/>
          </p:nvSpPr>
          <p:spPr>
            <a:xfrm flipH="1" rot="16200000">
              <a:off x="4494960" y="1828440"/>
              <a:ext cx="3657240" cy="3505320"/>
            </a:xfrm>
            <a:prstGeom prst="upArrowCallout">
              <a:avLst>
                <a:gd name="adj1" fmla="val 21748"/>
                <a:gd name="adj2" fmla="val 19693"/>
                <a:gd name="adj3" fmla="val 14898"/>
                <a:gd name="adj4" fmla="val 46907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5486400" y="1874520"/>
              <a:ext cx="251460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sensationalistic newspapers of </a:t>
              </a:r>
              <a:r>
                <a:rPr b="1" lang="en-US" sz="2200" spc="-1" strike="noStrike">
                  <a:solidFill>
                    <a:srgbClr val="ff0000"/>
                  </a:solidFill>
                  <a:latin typeface="Verdana"/>
                </a:rPr>
                <a:t>William Randolph Hearst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competed with Pulitzer</a:t>
              </a:r>
              <a:r>
                <a:rPr b="0" lang="ja-JP" sz="2200" spc="-1" strike="noStrike">
                  <a:solidFill>
                    <a:srgbClr val="0033cc"/>
                  </a:solidFill>
                  <a:latin typeface="Verdana"/>
                </a:rPr>
                <a:t>’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s paper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for reader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 flipH="1" rot="10792800">
            <a:off x="1055160" y="1296360"/>
            <a:ext cx="6934320" cy="1979640"/>
          </a:xfrm>
          <a:prstGeom prst="upArrowCallout">
            <a:avLst>
              <a:gd name="adj1" fmla="val 43562"/>
              <a:gd name="adj2" fmla="val 3703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9"/>
          <p:cNvSpPr/>
          <p:nvPr/>
        </p:nvSpPr>
        <p:spPr>
          <a:xfrm>
            <a:off x="1143000" y="1450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uring the Gilded Age, literature and art that explored harsh realities was popu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0"/>
          <p:cNvSpPr/>
          <p:nvPr/>
        </p:nvSpPr>
        <p:spPr>
          <a:xfrm>
            <a:off x="1066680" y="3514680"/>
            <a:ext cx="72392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ephen Cra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rote about New York slu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atio Alg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rote about characters who succeeded through hard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obert Henr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others developed a style of painting known as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shcan Schoo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depicted the squalor of New York slu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29"/>
          <p:cNvSpPr/>
          <p:nvPr/>
        </p:nvSpPr>
        <p:spPr>
          <a:xfrm>
            <a:off x="762120" y="13716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blic education expanded rapidly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grade-school education became compulsory, more teenagers began attending high schools, and kindergartens ope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9"/>
          <p:cNvSpPr/>
          <p:nvPr/>
        </p:nvSpPr>
        <p:spPr>
          <a:xfrm>
            <a:off x="5638680" y="34909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 a result, the literacy rate climbed to nearly 90 percent by 19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sus_ch14_s3_LitChart"/>
          <p:cNvPicPr/>
          <p:nvPr/>
        </p:nvPicPr>
        <p:blipFill>
          <a:blip r:embed="rId1"/>
          <a:stretch/>
        </p:blipFill>
        <p:spPr>
          <a:xfrm>
            <a:off x="838080" y="3124080"/>
            <a:ext cx="45435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 flipH="1" rot="10792800">
            <a:off x="1054800" y="1296360"/>
            <a:ext cx="6934320" cy="1827000"/>
          </a:xfrm>
          <a:prstGeom prst="upArrowCallout">
            <a:avLst>
              <a:gd name="adj1" fmla="val 47202"/>
              <a:gd name="adj2" fmla="val 4013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9"/>
          <p:cNvSpPr/>
          <p:nvPr/>
        </p:nvSpPr>
        <p:spPr>
          <a:xfrm>
            <a:off x="1143000" y="13748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hools began to do a better job of preparing people for care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0"/>
          <p:cNvSpPr/>
          <p:nvPr/>
        </p:nvSpPr>
        <p:spPr>
          <a:xfrm>
            <a:off x="1066680" y="3352680"/>
            <a:ext cx="723924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hool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aught skills that workers needed in budding indus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achers attend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ining school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formers such a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John Dew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troduced new teaching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ies began to provid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pecialized training for urban car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uch as soci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38080" y="2209680"/>
            <a:ext cx="7467840" cy="35578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1447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 fo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52560" y="2209680"/>
          <a:ext cx="7238880" cy="3502080"/>
        </p:xfrm>
        <a:graphic>
          <a:graphicData uri="http://schemas.openxmlformats.org/drawingml/2006/table">
            <a:tbl>
              <a:tblPr/>
              <a:tblGrid>
                <a:gridCol w="2209680"/>
                <a:gridCol w="5029200"/>
              </a:tblGrid>
              <a:tr h="8611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Im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chools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taught immigrants 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helped Americanize th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 few careers were open to wom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re was a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upsurge in women</a:t>
                      </a:r>
                      <a:r>
                        <a:rPr b="0" lang="ja-JP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 colleges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many state universities began to accept wom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mited access to white institutions led to a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growth in schools and colleges for African America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3520" y="2133720"/>
            <a:ext cx="8076960" cy="399564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1143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uring the Gilded Age, new kinds of entertainment emer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133720"/>
          <a:ext cx="7925040" cy="3830400"/>
        </p:xfrm>
        <a:graphic>
          <a:graphicData uri="http://schemas.openxmlformats.org/drawingml/2006/table">
            <a:tbl>
              <a:tblPr/>
              <a:tblGrid>
                <a:gridCol w="1828800"/>
                <a:gridCol w="6096240"/>
              </a:tblGrid>
              <a:tr h="84672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Amusement P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oney Isl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similar parks offered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roller coas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and other ri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Outdoor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Buffalo Bill</a:t>
                      </a:r>
                      <a:r>
                        <a:rPr b="0" lang="ja-JP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s Wild West Sho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toured Amer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33cc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Chautauqu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ered storytelling, bands, singers, and lectures on politics and mor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Arial"/>
                        </a:rPr>
                        <a:t>Fun in      the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13716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ff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Vaudev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shows were a mixture of musical drama, songs, and come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ickelodeons introduced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otion pictu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Aft>
                          <a:spcPts val="1349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gtime bands played in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Arial"/>
                        </a:rPr>
                        <a:t>music ha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504960" y="1447920"/>
            <a:ext cx="5181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asebal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merica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national sport,  becam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xtremely popul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uring the Gilded Age, although it was segregated after 188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SUS_ch14_S3_CyYoung"/>
          <p:cNvPicPr/>
          <p:nvPr/>
        </p:nvPicPr>
        <p:blipFill>
          <a:blip r:embed="rId1"/>
          <a:stretch/>
        </p:blipFill>
        <p:spPr>
          <a:xfrm>
            <a:off x="595440" y="1295280"/>
            <a:ext cx="2528640" cy="472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505320" y="3581280"/>
            <a:ext cx="5181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orse and bicycle racing, boxing, football, and basketb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lso became popular spectator s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838080" y="1828800"/>
            <a:ext cx="7164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new types of stores and  marketing changed American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ways in which Americans developed a mass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new forms of popular entertainment in the late 1800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1415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1415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838080" y="1828800"/>
            <a:ext cx="746784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rk Twai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atirical novelist who wrote about American life in the late 180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ilded A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rm coined by Mark Twain to describe the post-Reconstruction era which was characterized by a façade of prosp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onspicuous consumer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urchasing of goods and services to impres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cultu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imilar consumption patterns as a result of the spread of transportation, communication, and advert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Joseph Pulitz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immigrant who became a publisher of sensationalistic 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illiam Randolph Hear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competitor of Pulitz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who also published sensationalistic 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ratio Alg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ovelist who wrote about characters who succeeded through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vaudevil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 of show, including dancing, singing, and comedy sketches, that became popular in the late 19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576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216080" y="1722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luxuries did cities offer to the middle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216080" y="2971800"/>
            <a:ext cx="6934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the last part of the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, a new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iddle-class lifesty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ained popularity and influence in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ough some disliked the values of this era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American culture created then would persist for the next 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SUS09_EQ_logoSmall.jpg"/>
          <p:cNvPicPr/>
          <p:nvPr/>
        </p:nvPicPr>
        <p:blipFill>
          <a:blip r:embed="rId1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2"/>
          <p:cNvSpPr/>
          <p:nvPr/>
        </p:nvSpPr>
        <p:spPr>
          <a:xfrm>
            <a:off x="4572000" y="152388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his 1873 novel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 Gilded Ag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ovelis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rk Tw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atiricall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epicted American society as gilded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having a rotten core covered with gold pai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572000" y="4100400"/>
            <a:ext cx="3962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Americans were not as cynical, but Twai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label stuck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historians call the late 19</a:t>
            </a:r>
            <a:r>
              <a:rPr b="0" lang="en-US" sz="2200" spc="-1" strike="noStrike" baseline="30000">
                <a:solidFill>
                  <a:srgbClr val="0033cc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century 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Gilded 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109265151"/>
          <p:cNvPicPr/>
          <p:nvPr/>
        </p:nvPicPr>
        <p:blipFill>
          <a:blip r:embed="rId1"/>
          <a:stretch/>
        </p:blipFill>
        <p:spPr>
          <a:xfrm>
            <a:off x="1219320" y="1600200"/>
            <a:ext cx="25635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4919760" y="4094280"/>
            <a:ext cx="3124080" cy="1544040"/>
            <a:chOff x="4919760" y="4094280"/>
            <a:chExt cx="3124080" cy="1544040"/>
          </a:xfrm>
        </p:grpSpPr>
        <p:sp>
          <p:nvSpPr>
            <p:cNvPr id="67" name="Rectangle 3"/>
            <p:cNvSpPr/>
            <p:nvPr/>
          </p:nvSpPr>
          <p:spPr>
            <a:xfrm>
              <a:off x="4919760" y="4094280"/>
              <a:ext cx="3124080" cy="154404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5105520" y="4224240"/>
              <a:ext cx="2862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many, this led to a culture of </a:t>
              </a: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conspicuous consumeris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1109520" y="4094280"/>
            <a:ext cx="3962520" cy="1526760"/>
            <a:chOff x="1109520" y="4094280"/>
            <a:chExt cx="3962520" cy="1526760"/>
          </a:xfrm>
        </p:grpSpPr>
        <p:sp>
          <p:nvSpPr>
            <p:cNvPr id="70" name="AutoShape 5"/>
            <p:cNvSpPr/>
            <p:nvPr/>
          </p:nvSpPr>
          <p:spPr>
            <a:xfrm rot="16200000">
              <a:off x="4119480" y="443376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e8eae9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5929" dir="2028877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"/>
            <p:cNvGrpSpPr/>
            <p:nvPr/>
          </p:nvGrpSpPr>
          <p:grpSpPr>
            <a:xfrm>
              <a:off x="1109520" y="4094280"/>
              <a:ext cx="3124440" cy="1526760"/>
              <a:chOff x="1109520" y="4094280"/>
              <a:chExt cx="3124440" cy="1526760"/>
            </a:xfrm>
          </p:grpSpPr>
          <p:sp>
            <p:nvSpPr>
              <p:cNvPr id="72" name="Rectangle 7"/>
              <p:cNvSpPr/>
              <p:nvPr/>
            </p:nvSpPr>
            <p:spPr>
              <a:xfrm>
                <a:off x="1109520" y="4094280"/>
                <a:ext cx="3124440" cy="1526760"/>
              </a:xfrm>
              <a:prstGeom prst="rect">
                <a:avLst/>
              </a:prstGeom>
              <a:gradFill rotWithShape="0">
                <a:gsLst>
                  <a:gs pos="0">
                    <a:srgbClr val="e8eae9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1"/>
              <p:cNvSpPr/>
              <p:nvPr/>
            </p:nvSpPr>
            <p:spPr>
              <a:xfrm>
                <a:off x="1295280" y="4200480"/>
                <a:ext cx="286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More people had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more money,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and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more product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were availabl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AutoShape 9"/>
          <p:cNvSpPr/>
          <p:nvPr/>
        </p:nvSpPr>
        <p:spPr>
          <a:xfrm>
            <a:off x="2090880" y="287496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1095480" y="1600200"/>
            <a:ext cx="6948360" cy="1458720"/>
            <a:chOff x="1095480" y="1600200"/>
            <a:chExt cx="6948360" cy="1458720"/>
          </a:xfrm>
        </p:grpSpPr>
        <p:sp>
          <p:nvSpPr>
            <p:cNvPr id="76" name="Rectangle 11"/>
            <p:cNvSpPr/>
            <p:nvPr/>
          </p:nvSpPr>
          <p:spPr>
            <a:xfrm>
              <a:off x="1095480" y="1600200"/>
              <a:ext cx="6948360" cy="1458720"/>
            </a:xfrm>
            <a:prstGeom prst="rect">
              <a:avLst/>
            </a:prstGeom>
            <a:gradFill rotWithShape="0">
              <a:gsLst>
                <a:gs pos="0">
                  <a:srgbClr val="e8eae9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1295280" y="1707480"/>
              <a:ext cx="667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dustrialization and urbanization changed the lives of American workers, as more people began to work for wages rather than for themselves on farm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9"/>
          <p:cNvSpPr/>
          <p:nvPr/>
        </p:nvSpPr>
        <p:spPr>
          <a:xfrm>
            <a:off x="457200" y="1371600"/>
            <a:ext cx="81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1870s, many big cities ha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department store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turned shopping in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 form of entertai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middle-class men and wo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HSUS_ch14_S3_DeptStore"/>
          <p:cNvPicPr/>
          <p:nvPr/>
        </p:nvPicPr>
        <p:blipFill>
          <a:blip r:embed="rId1"/>
          <a:stretch/>
        </p:blipFill>
        <p:spPr>
          <a:xfrm>
            <a:off x="561960" y="2924280"/>
            <a:ext cx="4772160" cy="24858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80" name="Rectangle 70"/>
          <p:cNvSpPr/>
          <p:nvPr/>
        </p:nvSpPr>
        <p:spPr>
          <a:xfrm>
            <a:off x="5638680" y="2948040"/>
            <a:ext cx="300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artment stores attracted customers with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widespread adverti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 variety of high-quality goods at fair pr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29"/>
          <p:cNvSpPr/>
          <p:nvPr/>
        </p:nvSpPr>
        <p:spPr>
          <a:xfrm>
            <a:off x="1066680" y="53341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lso, better sanitation and medical care contributed to a longer life expecta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837720" y="1523880"/>
            <a:ext cx="4267080" cy="3353040"/>
            <a:chOff x="837720" y="1523880"/>
            <a:chExt cx="4267080" cy="3353040"/>
          </a:xfrm>
        </p:grpSpPr>
        <p:sp>
          <p:nvSpPr>
            <p:cNvPr id="83" name="AutoShape 4"/>
            <p:cNvSpPr/>
            <p:nvPr/>
          </p:nvSpPr>
          <p:spPr>
            <a:xfrm flipH="1" rot="5400000">
              <a:off x="1294200" y="1066680"/>
              <a:ext cx="3353040" cy="4267080"/>
            </a:xfrm>
            <a:prstGeom prst="upArrowCallout">
              <a:avLst>
                <a:gd name="adj1" fmla="val 13418"/>
                <a:gd name="adj2" fmla="val 12500"/>
                <a:gd name="adj3" fmla="val 20144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e8eae9"/>
                </a:gs>
              </a:gsLst>
              <a:lin ang="18900000"/>
            </a:gradFill>
            <a:ln w="9360">
              <a:solidFill>
                <a:srgbClr val="ccccff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916920" y="1802880"/>
              <a:ext cx="294660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ople began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measure success by what they could buy,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and they equated purchasing power with a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higher standard of livin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29"/>
          <p:cNvSpPr/>
          <p:nvPr/>
        </p:nvSpPr>
        <p:spPr>
          <a:xfrm>
            <a:off x="5334120" y="20890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eriod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he cost of living decreas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cause manufactured products and new technology cost l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51:34Z</dcterms:modified>
  <cp:revision>205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